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1.pct" ContentType="image/x-pict"/>
  <Override PartName="/ppt/media/image9.png" ContentType="image/png"/>
  <Override PartName="/ppt/media/image6.gif" ContentType="image/gif"/>
  <Override PartName="/ppt/media/image22.pct" ContentType="image/x-pict"/>
  <Override PartName="/ppt/media/image8.png" ContentType="image/png"/>
  <Override PartName="/ppt/media/image21.pct" ContentType="image/x-pict"/>
  <Override PartName="/ppt/media/image7.pct" ContentType="image/x-pict"/>
  <Override PartName="/ppt/media/image12.png" ContentType="image/png"/>
  <Override PartName="/ppt/media/image20.jpeg" ContentType="image/jpeg"/>
  <Override PartName="/ppt/media/image3.gif" ContentType="image/gif"/>
  <Override PartName="/ppt/media/image17.pct" ContentType="image/x-pict"/>
  <Override PartName="/ppt/media/image10.png" ContentType="image/png"/>
  <Override PartName="/ppt/media/image5.png" ContentType="image/png"/>
  <Override PartName="/ppt/media/image25.gif" ContentType="image/gif"/>
  <Override PartName="/ppt/media/image26.pct" ContentType="image/x-pict"/>
  <Override PartName="/ppt/media/image24.png" ContentType="image/png"/>
  <Override PartName="/ppt/media/image23.jpeg" ContentType="image/jpeg"/>
  <Override PartName="/ppt/media/image28.pct" ContentType="image/x-pict"/>
  <Override PartName="/ppt/media/image1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1.pct" ContentType="image/x-pict"/>
  <Override PartName="/ppt/media/image4.png" ContentType="image/png"/>
  <Override PartName="/ppt/media/image27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2A8-2DDD-46AC-B1D6-86E092DE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045-7916-4DD5-8123-F3842A3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CE1-4620-4D64-9272-57A7C264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990-BEA1-4028-AF50-CE6C352E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477-929E-4F21-9E31-D171E8B2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076-B753-4D14-9AAB-27FD66B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CB4-000D-4E03-A378-9297A24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6B9-5A71-48DA-8A4F-8A26139E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D80-DBC8-4944-933C-D06B5F8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AC1-0459-42ED-981D-96B87C93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05B-CE34-40FD-A670-57E9D403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94F-9534-4F97-8B57-39E3A747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6F1-437D-4DED-B09B-6B32AE465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ct"/><Relationship Id="rId3" Type="http://schemas.openxmlformats.org/officeDocument/2006/relationships/image" Target="../media/image10.png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ct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rker Felt"/>
              </a:rPr>
              <a:t>Les Étoiles Filantes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rker Felt"/>
              </a:rPr>
              <a:t>Les Cowboys Fring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4800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Marker Felt"/>
              </a:rPr>
              <a:t>Mariama O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76640" y="3122640"/>
            <a:ext cx="988920" cy="6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2894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0492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bf1"/>
                </a:solidFill>
                <a:latin typeface="Marker Felt"/>
              </a:rPr>
              <a:t>…</a:t>
            </a:r>
            <a:r>
              <a:rPr b="1" lang="en-US" sz="4800" spc="-1" strike="noStrike">
                <a:solidFill>
                  <a:srgbClr val="e3ebf1"/>
                </a:solidFill>
                <a:latin typeface="Marker Felt"/>
              </a:rPr>
              <a:t>comme une étoile filante…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430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Marker Felt"/>
              </a:rPr>
              <a:t>Si la vie était de donner heureux, les mémoires ne partiraient p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0e500"/>
                </a:solidFill>
                <a:latin typeface="Marker Felt"/>
              </a:rPr>
              <a:t>Si la vie arrêter dans un instant, c'est les mémoires que vous avez</a:t>
            </a:r>
            <a:r>
              <a:rPr b="0" lang="fr-FR" sz="2400" spc="-1" strike="noStrike">
                <a:solidFill>
                  <a:srgbClr val="f0e500"/>
                </a:solidFill>
                <a:latin typeface="Marker Felt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07120" y="-76320"/>
            <a:ext cx="38368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8380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ebf1"/>
                </a:solidFill>
                <a:latin typeface="Marker Felt"/>
              </a:rPr>
              <a:t>Les mémoires de quel était, comment les passes d'amour par dans le brouillar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8a4b"/>
                </a:solidFill>
                <a:latin typeface="Marker Felt"/>
              </a:rPr>
              <a:t>“</a:t>
            </a:r>
            <a:r>
              <a:rPr b="1" lang="en-US" sz="4400" spc="-1" strike="noStrike">
                <a:solidFill>
                  <a:srgbClr val="468a4b"/>
                </a:solidFill>
                <a:latin typeface="Marker Felt"/>
              </a:rPr>
              <a:t>C’pas mieux que r’garder en arrièr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295280" y="45720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1814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Carre St-Louis, est paisible et heureux.  Les endroits sont durs a partir derriè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78680" y="1066680"/>
            <a:ext cx="205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500"/>
                </a:solidFill>
                <a:latin typeface="Marker Felt"/>
              </a:rPr>
              <a:t>Il est bonne que les personnes apaise les coeurs en peine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43280" cy="196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66880" y="2590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arker Felt"/>
              </a:rPr>
              <a:t>Les mémoires palîront, et c'est les étoiles filantes qui resteront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28760" cy="359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0666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7429680" cy="485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2590560" cy="160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1933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14600" y="5486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715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Marker Felt"/>
              </a:rPr>
              <a:t>Il se peut la vie á les Québecoise est difficile et compliqué.  Les étoiles filantes rester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8088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Semble-t-il que “les idéaux qui se cassent” sont oublié dans le Québe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703160" cy="308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584440" cy="1765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3716280" cy="586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72000" y="5029200"/>
            <a:ext cx="2362320" cy="157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5520" y="380880"/>
            <a:ext cx="37335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Si je m’arrête un instant pour te parler de la vie…et ces </a:t>
            </a:r>
            <a:r>
              <a:rPr b="1" lang="en-US" sz="4400" spc="-1" strike="noStrike">
                <a:solidFill>
                  <a:srgbClr val="ffffff"/>
                </a:solidFill>
                <a:latin typeface="Marker Felt"/>
              </a:rPr>
              <a:t>hivers </a:t>
            </a: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enneigés á construire des igloos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Marker Felt"/>
              </a:rPr>
              <a:t>Espererz-vous que l’bon temps partiront parce que des coeurs changement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9720" y="2514240"/>
            <a:ext cx="220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ccff"/>
                </a:solidFill>
                <a:latin typeface="Marker Felt"/>
              </a:rPr>
              <a:t>La vie, l'amour, le heureux, les mémoires, rester, le moment, la réalité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2666880" cy="185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705720" y="205740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e500"/>
                </a:solidFill>
                <a:latin typeface="Marker Felt"/>
              </a:rPr>
              <a:t>Les étoiles filantes…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Bien que la vie est difficile, le bonheur avant le mort est trés bonne pour v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3048120" cy="238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4267440" cy="284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934320" y="3132000"/>
            <a:ext cx="1674720" cy="182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78792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546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380880"/>
            <a:ext cx="20574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La vie s’accroche et renaît comme les printemps reviennent dans une bouffée d’air frais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qui apaise les couers en pein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34280" y="2895480"/>
            <a:ext cx="2404800" cy="362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29200" y="-1522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13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3:01:27Z</dcterms:created>
  <dc:creator>CSUEXT</dc:creator>
  <dc:description/>
  <dc:language>en-US</dc:language>
  <cp:lastModifiedBy>Toni Theisen</cp:lastModifiedBy>
  <dcterms:modified xsi:type="dcterms:W3CDTF">2007-01-17T16:02:42Z</dcterms:modified>
  <cp:revision>20</cp:revision>
  <dc:subject/>
  <dc:title>Les Étoiles Filantes</dc:title>
</cp:coreProperties>
</file>